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66FE-BAF1-4AD2-AC80-33BC7E566B66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6C2D-3882-4471-AFEE-46892101C14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DF31-28A1-47F1-9E91-6A27FB2888C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90E7-E224-4ED2-9EAE-EBE713027E0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9C47-3426-4235-AC49-650A59E2A6B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4EFD-9F1B-40C9-9675-8C07E31DC37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BC21-F62F-4AD0-880E-6B7B8B319F7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CEBD-8CBA-4260-A26C-AD2AEAB2B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60DD-0F0B-4302-B1C3-49A0C5C2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AA16-DB55-4E29-8515-7112A4464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531A-4AD6-49C9-B1D1-0ED3B0691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42DD-7236-4EBD-98D7-F54C780B6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1DEA-3FFE-403F-85BB-B085A28E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2BFF7-D2A4-4DA3-B97D-5AB4C489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C980-5C43-4DE3-8EAD-49367228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6D26-A1B4-4515-8647-B926BD34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FF0C-B65B-4E1E-93F6-BE5545AE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7561-A5EC-48EE-9F2D-65875DCE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4D8A-EA31-425F-AFFB-97EFC15F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813C-498B-47A1-95D4-DA5945A3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F5DC-C2C0-4C49-A3F7-71009F64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A092-F23E-46AE-B803-A4C91AE6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45DC-9077-42FA-B368-2927A5ADD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EF2B-2650-4D61-BC27-33B017BD1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2F0C-C8C8-45CF-B42F-46BB1746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3366-786B-4865-879F-23DB5A12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A363-E419-478F-9555-F9F072ED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3F7A-5D38-4C22-A251-408CF954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071D-794E-4EF1-A40E-A7D44798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F795-C1C3-46BC-AAA7-6A9AC7DF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333C-471B-4829-AAEC-23C83182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4C6D-C230-43A8-9B1F-6EDB073852E7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48B6-F072-4E82-A4D6-50137487DCB4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VIDUS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9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4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AS IR DARBA DEVĒJ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ējs, uzņēmuma īpašniek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uma valdes loceklis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Vadītājs (uzņēmuma, nodaļas, filiāles)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ersonāla daļas speciālist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iCLIPART, silhouettes, women, men, people, teamwork, plannings, leaders, brainstorming, community, cooperation, lifestyle, city, business concepts, corporate"/>
          <p:cNvPicPr/>
          <p:nvPr/>
        </p:nvPicPr>
        <p:blipFill>
          <a:blip r:embed="rId1"/>
          <a:srcRect l="0" t="24131" r="0" b="8420"/>
          <a:stretch/>
        </p:blipFill>
        <p:spPr>
          <a:xfrm>
            <a:off x="2124000" y="4221000"/>
            <a:ext cx="34164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155736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7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12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3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8T14:24:03Z</dcterms:modified>
  <cp:revision>346</cp:revision>
  <dc:subject/>
  <dc:title>Slide 1</dc:title>
</cp:coreProperties>
</file>